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ФАРМ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9280" y="2204640"/>
            <a:ext cx="878544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16 ОБРАДА РЕЗУЛТАТА МЕР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авањ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ка вага; Мерне јединице; Израчунавања у фармацеутској технологији.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.др Ксенија Вучићев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3868560" y="0"/>
            <a:ext cx="14068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ене вредности не могу бити апсолутно тачне – несавршеност инструмента, грешка при очитавањ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се добила што тачније вредност величина се мери више пута и израчунава се средња вредност која је приближна тачној вредности . Овим поступком се прави мања греш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Е И ИЗВЕДЕНЕ ФИЗИЧКЕ ВЕЛИЧ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вне физичке величине су величине чија се бројна вредност одређује очитавањем на скали мерног индтрум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дене физичке величине су величине чија се бројна вредност одређује израчунавањем помоћу формула или изводи из више велич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m1r"/>
          <p:cNvPicPr/>
          <p:nvPr/>
        </p:nvPicPr>
        <p:blipFill>
          <a:blip r:embed="rId1"/>
          <a:stretch/>
        </p:blipFill>
        <p:spPr>
          <a:xfrm>
            <a:off x="179280" y="1773360"/>
            <a:ext cx="3961080" cy="297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m1e"/>
          <p:cNvPicPr/>
          <p:nvPr/>
        </p:nvPicPr>
        <p:blipFill>
          <a:blip r:embed="rId2"/>
          <a:stretch/>
        </p:blipFill>
        <p:spPr>
          <a:xfrm>
            <a:off x="4500720" y="1773360"/>
            <a:ext cx="410364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907560"/>
            <a:ext cx="9144000" cy="59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фикс се додаје јединици како би се добила већа или мања вредност од дате једин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m14"/>
          <p:cNvPicPr/>
          <p:nvPr/>
        </p:nvPicPr>
        <p:blipFill>
          <a:blip r:embed="rId1"/>
          <a:stretch/>
        </p:blipFill>
        <p:spPr>
          <a:xfrm>
            <a:off x="1258920" y="1989000"/>
            <a:ext cx="6481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8920" y="685440"/>
            <a:ext cx="86108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Дозе наведене у Фармакопеји обавезне су уколико Агенција за лекове не прихвати измене или допуне доза приликом регистрације лек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Средње појединачне дозе (терапијске), и највеће појединачне и дневне дозе (максималне) наведене у појединим монографијама, изражене су у грамима или интернационалним јединицам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озе наведене у монографији представљају дозе за нормално развијеног одраслог човека, за ентералну примену, као и за парентералну, уколико се препарат примењује парентерално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ада се парентералне дозе разликују од ентералних, наводе се посеб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710160" y="0"/>
            <a:ext cx="153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800000"/>
                </a:solidFill>
                <a:latin typeface="Times New Roman"/>
              </a:rPr>
              <a:t>ДОЗ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987640" y="-360"/>
            <a:ext cx="236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800000"/>
                </a:solidFill>
                <a:latin typeface="Arial"/>
              </a:rPr>
              <a:t>Д</a:t>
            </a:r>
            <a:r>
              <a:rPr b="1" lang="sr-Latn-CS" sz="3200" spc="-1" strike="noStrike">
                <a:solidFill>
                  <a:srgbClr val="800000"/>
                </a:solidFill>
                <a:latin typeface="Arial"/>
              </a:rPr>
              <a:t>о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Терапијска доз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osis medicinalis ili dosis therapeutica –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птимална количина лека која се даје пацијен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редња појединачна доз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(с.п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ајвећа појединачна доз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(н.п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ајвећа дневна доз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(н.д.д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НЕ СМЕЈУ БИТИ ПРЕКОРАЧЕНЕ Н.П.Д. И Н.Д.Д.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веће појединачне и дневне дозе не односе се на фармацеутске облике који садрже лековиту активну супстанцу са продуженим деловањ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19520" y="304560"/>
            <a:ext cx="304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До</a:t>
            </a:r>
            <a:r>
              <a:rPr b="1" lang="sr-Latn-CS" sz="3200" spc="-1" strike="noStrike">
                <a:solidFill>
                  <a:srgbClr val="800000"/>
                </a:solidFill>
                <a:latin typeface="Arial"/>
              </a:rPr>
              <a:t>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ксимална доза је највећа количина лековитог препарата која се одраслом човеку сме издати за једнократну или дневну употре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Максималне дозе важе за лековите препарате који се примењују перорално и парентeралан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Максималне дозе НЕ важе за лековите препарате који се примењују за испирање очију, уста, носа, ректума и урогениталних органа</a:t>
            </a: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23720" y="151920"/>
            <a:ext cx="221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800000"/>
                </a:solidFill>
                <a:latin typeface="Arial"/>
              </a:rPr>
              <a:t>До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зе за спољашњу примену на кожу и слузокожу наведене су као</a:t>
            </a:r>
            <a:r>
              <a:rPr b="0" lang="sr-CS" sz="3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800000"/>
                </a:solidFill>
                <a:uFillTx/>
                <a:latin typeface="Arial"/>
              </a:rPr>
              <a:t>средње концентрације</a:t>
            </a:r>
            <a:r>
              <a:rPr b="1" lang="sr-CS" sz="3200" spc="-1" strike="noStrike" u="sng">
                <a:solidFill>
                  <a:srgbClr val="80808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(% препарата у вехикулум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разблажено и сл.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 за оријентацију у Фрамакопеји је наведена у загради иза дозе и најчешћа употреба препар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56000" y="-360"/>
            <a:ext cx="395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800000"/>
                </a:solidFill>
                <a:latin typeface="Arial"/>
              </a:rPr>
              <a:t>До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496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вером максималних доза штитимо болесника да не дође до кобних забуна при писању и изради галенских препа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о је у терапији потребно прекорачење максималне дозе, лекар мора на то упозорити фармацеута на прописан начи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исписује количину и словима, пише (!) и ставља свој потпи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.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Rp/ Morphini chloridi 0,03 (cenigramata tres)!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тпис лек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-171360"/>
            <a:ext cx="8712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800000"/>
                </a:solidFill>
                <a:latin typeface="Arial"/>
              </a:rPr>
              <a:t>Провера концентрације у препара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620280"/>
            <a:ext cx="8856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Rp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    Acidi borici    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0,60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          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nesthesini      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2,00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          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inci oxyd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8,00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          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lci          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d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0,00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pulvis</a:t>
            </a:r>
            <a:br>
              <a:rPr sz="2000"/>
            </a:b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. споља за посип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Acidum boricum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Ph.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g. IV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.конц. = 10 % у прашков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рне киселине : 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 g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препарата =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X : 100 g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препара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X = 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3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 g 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тј. 3%&lt; 10 %, концентарција није прекорач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Anesthesinum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Ph.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g IV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.конц. = 1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g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естезина : 20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препарата =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X : 100 g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препара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X = 10 g 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тј. 10% 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=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10%, концентрација није прекорач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Zinci oxydum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Ph.Jug. IV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редња конц. = 10 % и Магистралне формуле 2008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Г 2008) 40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цинк-оксида : 20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препарата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: 100 g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препара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x =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40 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g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тј. 40% = 40%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концентрација није прекорачен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800000"/>
                </a:solidFill>
                <a:latin typeface="Arial"/>
              </a:rPr>
              <a:t>Провера концентрације у препара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036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Rp/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cidi borici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1,5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piriti diluti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50,0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sr-C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a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lu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sr-C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sr-CS" sz="2800" spc="-1" strike="noStrike">
                <a:solidFill>
                  <a:srgbClr val="000000"/>
                </a:solidFill>
                <a:latin typeface="Arial"/>
              </a:rPr>
              <a:t>. Споља по потре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Acidum boricum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: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h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Jug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V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растворима је дозвољена средња концентрација 3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51,5 грама препарата : 1,5 грама борне кислеин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00: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= 2,91 грама тј. 2,91%  &lt; 3%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редња концентрација није прекорач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0" y="836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ЊЕ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Е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ђај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у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г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имо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у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ад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л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чке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с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гиталн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у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но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наменски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но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им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им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ењим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им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цим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ањ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800000"/>
                </a:solidFill>
                <a:latin typeface="Arial"/>
              </a:rPr>
              <a:t>Провера концентрације за прашкасте супстанце и растворе у препара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p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nci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di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1,0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ci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1,2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i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ici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3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2,0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ffini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i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4,0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quae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ygdalae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2,0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olini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elini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aa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15,00</a:t>
            </a:r>
            <a:br>
              <a:rPr sz="3200"/>
            </a:br>
            <a:r>
              <a:rPr b="1" i="1" lang="sr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sr-C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sr-C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rem</a:t>
            </a:r>
            <a:br>
              <a:rPr sz="3200"/>
            </a:br>
            <a:r>
              <a:rPr b="1" i="1" lang="sr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sr-C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sr-CS" sz="3200" spc="-1" strike="noStrike">
                <a:solidFill>
                  <a:srgbClr val="000000"/>
                </a:solidFill>
                <a:latin typeface="Arial"/>
              </a:rPr>
              <a:t>. спо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78920" y="259920"/>
            <a:ext cx="87138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брати количине свих супстанци: 1.0+ 1.25 + 2.0 + 4.0 + 2.0 + 15.0 + 15.0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,25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препарату о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25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налази се 1.0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цинк – окси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 у 100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репарата бић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40,25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: 1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 baseline="-25000">
                <a:solidFill>
                  <a:srgbClr val="000000"/>
                </a:solidFill>
                <a:latin typeface="Arial"/>
              </a:rPr>
              <a:t>цинк-оксид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= 100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Arial"/>
              </a:rPr>
              <a:t>препарат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X 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Arial"/>
              </a:rPr>
              <a:t>цинк – окс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= 2,48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цинк – оксида (2,48 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Цинк – оксид се налази у препарату у концентрацији од 2,48 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гистралне формуле прописују дозвољену употребу до 40% цинк-оксида у препаратима за спољашњу употребу, па како 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2,48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&lt; 40 </a:t>
            </a: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 концентрација није прекорач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893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3% раствор борне киселине представља 3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борне киселине растворено у 100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твора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ога ћ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грама раствора б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Arial"/>
              </a:rPr>
              <a:t>раство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: 3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Arial"/>
              </a:rPr>
              <a:t>борне кис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= 2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Arial"/>
              </a:rPr>
              <a:t>раство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X 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Arial"/>
              </a:rPr>
              <a:t>борне кис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100 *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= 0,06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борне кисели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0,06 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Arial"/>
              </a:rPr>
              <a:t> борне кис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: 40,25 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Arial"/>
              </a:rPr>
              <a:t> препарат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Arial"/>
              </a:rPr>
              <a:t> борне кис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: 100 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Arial"/>
              </a:rPr>
              <a:t> препарат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= 0,1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Acidum boricum (Ph.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Ј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ug. IV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едња конц.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%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прашковим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 маст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парат је крем па 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0,15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% &lt; 10 % 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 концентрација борн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киселине у овом препарату није прекорач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800000"/>
                </a:solidFill>
                <a:latin typeface="Arial"/>
              </a:rPr>
              <a:t>Практичне мере за узимање ле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 се омогући контрола максималних доза лековитих супстанци, које ће болесник узети као појединачну или дневну дозу, уведене су практичне мере, које су уобичајене за дозирање лекова у течном стању или у облику пра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Практичне мере за дозирањ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 кафена кашичиц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5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грама или 5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 супена каши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грама или 15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рх ножа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– до 1,5 грам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(све ређе у употреб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5694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ПРОВЕРА ДОЗИРАЊА ОРАЛНОГ ПРЕПА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Rp/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gnesii carbonici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trii hydrocarbonic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alcii carbonati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6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actosi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ad 10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0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M.f. pulv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D.S.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1 кашичицу дне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MgC0</a:t>
            </a:r>
            <a:r>
              <a:rPr b="1" lang="sr-Latn-CS" sz="2400" spc="-1" strike="noStrike" baseline="-25000">
                <a:solidFill>
                  <a:srgbClr val="800000"/>
                </a:solidFill>
                <a:latin typeface="Arial"/>
              </a:rPr>
              <a:t>3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Ph.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Ј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ug. IV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: с.п.д.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=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 0,5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беремо све количине компоненти и видимо да 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00 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рашка има 6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гнезијум карбоната, што значи да ће у једној дози која је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кашичица тј.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5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 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имати 0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магнезијум карбон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0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5 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x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=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0,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5 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g MgC03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&lt;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 0,5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g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 с.п.д. за  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MgC0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доза није прекорач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800000"/>
                </a:solidFill>
                <a:uFillTx/>
                <a:latin typeface="Arial"/>
              </a:rPr>
              <a:t>Провера дозе за </a:t>
            </a:r>
            <a:r>
              <a:rPr b="1" lang="sr-Latn-CS" sz="2800" spc="-1" strike="noStrike" u="sng">
                <a:solidFill>
                  <a:srgbClr val="800000"/>
                </a:solidFill>
                <a:uFillTx/>
                <a:latin typeface="Arial"/>
              </a:rPr>
              <a:t>NaHC0</a:t>
            </a:r>
            <a:r>
              <a:rPr b="1" lang="sr-Latn-CS" sz="2800" spc="-1" strike="noStrike" u="sng" baseline="-25000">
                <a:solidFill>
                  <a:srgbClr val="800000"/>
                </a:solidFill>
                <a:uFillTx/>
                <a:latin typeface="Arial"/>
              </a:rPr>
              <a:t>3</a:t>
            </a:r>
            <a:r>
              <a:rPr b="1" lang="en-US" sz="2800" spc="-1" strike="noStrike" baseline="-25000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- </a:t>
            </a:r>
            <a:r>
              <a:rPr b="0" lang="sr-Latn-CS" sz="2800" spc="-1" strike="noStrike">
                <a:solidFill>
                  <a:srgbClr val="800000"/>
                </a:solidFill>
                <a:latin typeface="Arial"/>
              </a:rPr>
              <a:t>Ph.</a:t>
            </a:r>
            <a:r>
              <a:rPr b="0" lang="sr-CS" sz="2800" spc="-1" strike="noStrike">
                <a:solidFill>
                  <a:srgbClr val="800000"/>
                </a:solidFill>
                <a:latin typeface="Arial"/>
              </a:rPr>
              <a:t>Ј</a:t>
            </a:r>
            <a:r>
              <a:rPr b="0" lang="sr-Latn-CS" sz="2800" spc="-1" strike="noStrike">
                <a:solidFill>
                  <a:srgbClr val="800000"/>
                </a:solidFill>
                <a:latin typeface="Arial"/>
              </a:rPr>
              <a:t>ug. IV</a:t>
            </a:r>
            <a:r>
              <a:rPr b="0" lang="sr-CS" sz="2800" spc="-1" strike="noStrike">
                <a:solidFill>
                  <a:srgbClr val="800000"/>
                </a:solidFill>
                <a:latin typeface="Arial"/>
              </a:rPr>
              <a:t>: с.п.д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r-CS" sz="28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0" lang="sr-Latn-CS" sz="2800" spc="-1" strike="noStrike">
                <a:solidFill>
                  <a:srgbClr val="800000"/>
                </a:solidFill>
                <a:latin typeface="Arial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беремо све количине компоненти и видимо да 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прашка имам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g NaHC0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0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5 :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=</a:t>
            </a: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 0,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4</a:t>
            </a: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800000"/>
                </a:solidFill>
                <a:latin typeface="Arial"/>
              </a:rPr>
              <a:t>g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&lt; 1 </a:t>
            </a:r>
            <a:r>
              <a:rPr b="1" lang="sr-Latn-CS" sz="2800" spc="-1" strike="noStrike">
                <a:solidFill>
                  <a:srgbClr val="800000"/>
                </a:solidFill>
                <a:latin typeface="Arial"/>
              </a:rPr>
              <a:t>g </a:t>
            </a: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 тј. доза није прекорач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800000"/>
                </a:solidFill>
                <a:uFillTx/>
                <a:latin typeface="Arial"/>
              </a:rPr>
              <a:t>Провера дозе за </a:t>
            </a:r>
            <a:r>
              <a:rPr b="1" lang="sr-Latn-CS" sz="2800" spc="-1" strike="noStrike" u="sng">
                <a:solidFill>
                  <a:srgbClr val="800000"/>
                </a:solidFill>
                <a:uFillTx/>
                <a:latin typeface="Arial"/>
              </a:rPr>
              <a:t>CaC0</a:t>
            </a:r>
            <a:r>
              <a:rPr b="1" lang="sr-Latn-CS" sz="2800" spc="-1" strike="noStrike" u="sng" baseline="-25000">
                <a:solidFill>
                  <a:srgbClr val="800000"/>
                </a:solidFill>
                <a:uFillTx/>
                <a:latin typeface="Arial"/>
              </a:rPr>
              <a:t>3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- </a:t>
            </a:r>
            <a:r>
              <a:rPr b="0" lang="sr-Latn-CS" sz="2800" spc="-1" strike="noStrike">
                <a:solidFill>
                  <a:srgbClr val="800000"/>
                </a:solidFill>
                <a:latin typeface="Arial"/>
              </a:rPr>
              <a:t>Ph.</a:t>
            </a:r>
            <a:r>
              <a:rPr b="0" lang="sr-CS" sz="2800" spc="-1" strike="noStrike">
                <a:solidFill>
                  <a:srgbClr val="800000"/>
                </a:solidFill>
                <a:latin typeface="Arial"/>
              </a:rPr>
              <a:t>Ј</a:t>
            </a:r>
            <a:r>
              <a:rPr b="0" lang="sr-Latn-CS" sz="2800" spc="-1" strike="noStrike">
                <a:solidFill>
                  <a:srgbClr val="800000"/>
                </a:solidFill>
                <a:latin typeface="Arial"/>
              </a:rPr>
              <a:t>ug. IV</a:t>
            </a:r>
            <a:r>
              <a:rPr b="0" lang="sr-CS" sz="2800" spc="-1" strike="noStrike">
                <a:solidFill>
                  <a:srgbClr val="800000"/>
                </a:solidFill>
                <a:latin typeface="Arial"/>
              </a:rPr>
              <a:t>: с.п.д.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= </a:t>
            </a:r>
            <a:r>
              <a:rPr b="0" lang="sr-CS" sz="2800" spc="-1" strike="noStrike">
                <a:solidFill>
                  <a:srgbClr val="800000"/>
                </a:solidFill>
                <a:latin typeface="Arial"/>
              </a:rPr>
              <a:t>2 </a:t>
            </a:r>
            <a:r>
              <a:rPr b="0" lang="sr-Latn-CS" sz="2800" spc="-1" strike="noStrike">
                <a:solidFill>
                  <a:srgbClr val="8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беремо све количине компоненти и видимо да 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прашка имамо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g CaC03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0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5 :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=</a:t>
            </a: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 0,3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&lt; 2 </a:t>
            </a: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тј. доза није прекораче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567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ПРОВЕРА ДОЗИРАЊА ОРАЛНОГ ПРЕПА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8964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Rp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    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ulfadiazini                 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5,00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          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ulfadimethoxini      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   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2,00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        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     Sirupi simplici     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50,00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suspensio</a:t>
            </a:r>
            <a:br>
              <a:rPr sz="2000"/>
            </a:b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кашик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Провера дозе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Sulfadiazi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m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 -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ug IV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.п.д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1гра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5 : 50 =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x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: 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пд = 2 грам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x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= 1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,5g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&gt;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g -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је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прекорачен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С.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д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дд = 7 грам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x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= 1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,5g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&lt; 2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g -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ни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је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прекорачен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Н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д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3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x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1,5 = 4,5 &lt; 7 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g 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ни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је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прекорачен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Н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.д.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Провера дозе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Sulfadimethoxinum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ug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д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0,5г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пд = 1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дд = 3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2:50= x:1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x= 0,6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g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&gt;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0,5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g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рекорачен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је С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д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x= 0,6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g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&lt;1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g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ни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је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прекорачен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Н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д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3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x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0,6 = 1,8&lt;3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g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ни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је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прекорачен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Н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д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д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800000"/>
                </a:solidFill>
                <a:latin typeface="Arial"/>
              </a:rPr>
              <a:t>Терапијске дозе за дец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Вредности терапијских доза за децу прописане су Фармакопеј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. Jug IV, Вол. I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Табел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4-1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за различите узрасте) и ако није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ругачи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означено односе се на нормално развијену дец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800000"/>
                </a:solidFill>
                <a:latin typeface="Arial"/>
              </a:rPr>
              <a:t>Терапијске дозе за дец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да у фармакопеји нема наведених терапијских доза за децу могу се израчунати на више начи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1. Дозе према годинама детет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дине дет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чја доза =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x  доза за одрас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2.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Дозе према телесној ма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маса дет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Дечја доза =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x  доза за одрас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Аугсбергеров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формуле одговарају, после прве године живота, приближно дози израчунатој према површини тела детета. Односе се на године, односно на масу детета и изражавају дечју дозу као процентуални део  дозе одраслог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2195640" y="306864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>
            <a:off x="2050920" y="4653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Код лекова који се дозирају на капи користимо следеће приближне мере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691920"/>
            <a:ext cx="87901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 g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чног лековитoг препаратa има следeћи број кап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Вода и обични водени раст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....................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oкo 20 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ка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асно уљ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.................................................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oкo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30-40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ка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лкохолно водени раствори, течни екстракти,тинктуре, етарска уља...............................................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окo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40-50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ка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исти а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хол..........................................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oкo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 50-60   капи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Пре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а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унавање у капи 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а поједине супстанце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се може наћи у :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Ph Jug II, таблицa XX , str.888-890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Магистралне формуле 2008, стр.39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ЈСКЕ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ји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користе техничке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ке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гитална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а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ка</a:t>
            </a:r>
            <a:r>
              <a:rPr b="0" i="1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а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а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чност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ња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чност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кве ваге износи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0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ка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а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орена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835280" y="5013360"/>
            <a:ext cx="33843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036000" cy="66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Rp/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idi sa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ic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0,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idi benzoic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Zinci oxyd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4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alci venet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d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</a:rPr>
              <a:t>fiat pulv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. Споља за посип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cid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um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salic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y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licum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h.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g. IV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ња конц. 2% антисептик, 10% кератолитик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0,2:10= x :1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x = 2% = 2%, концентрација није прекорач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Acidum benzoicum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дња конц. 5-16% (Магистралне формуле 200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0,6:10 = x :1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x=6 %   концентрација није прекораче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 u="sng">
                <a:solidFill>
                  <a:srgbClr val="000000"/>
                </a:solidFill>
                <a:uFillTx/>
                <a:latin typeface="Arial"/>
              </a:rPr>
              <a:t>Zinci oxydum</a:t>
            </a: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h.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g. IV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 средња конц. 10%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Магистралне формуле 2008 ) средња конц. 40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4 : 10 = x : 1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= 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% , концентрација није прекорач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М</a:t>
            </a:r>
            <a:r>
              <a:rPr b="0" lang="sr-Latn-CS" sz="3600" spc="-1" strike="noStrike">
                <a:solidFill>
                  <a:srgbClr val="800000"/>
                </a:solidFill>
                <a:latin typeface="Arial"/>
              </a:rPr>
              <a:t>ере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о фармацеутска операција примењује се најчешће мерење по теж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жински се мере и чврсте материје и те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одређивање тежине користе се баждарене ваге и тег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оје различите врсте вага: тара вага, ручна вага, прецизна и децимална ва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561520" cy="56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армакопеја прописује да тачно вагати значи да прописана количина препарата треба да се мери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 5 децимале ако је мања од 10 м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 4 децимале ако је од 10 мг до 10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 две децимале ако је већа од 10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800000"/>
                </a:solidFill>
                <a:latin typeface="Arial"/>
              </a:rPr>
              <a:t>Концентр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тоје још изражавањ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% (mas/vol)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 чврсто у течном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% (vol/vol)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 течно у теч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800000"/>
                </a:solidFill>
                <a:latin typeface="Arial"/>
              </a:rPr>
              <a:t>Концентра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84852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центна тежинска концентрација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ој грама супстанце у 100 грама раствора (теж./теж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центна запреминска концентрациј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ој мл супстанце у 100 мл раствора (вол./во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жинско-запреминска концентрација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ој грама супстанце у 100 мл раствора (теж./во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милна концентрација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ој грама или мл супстанце у 1000 г или мл раств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800000"/>
                </a:solidFill>
                <a:latin typeface="Arial"/>
              </a:rPr>
              <a:t>Процентна тежинска концентр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569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ражава се процентом (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– то је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удео неке супстанце у грамима  у 100 грама чврстог препарата или раств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оже се изразити и као децималан  бро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58% = 58/100  =  0,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0,17 = 17/100  =  1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0" y="981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ивање познатог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инск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цента (а) на жељени тежински проценат (ц)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етода израчунавања ”преко крста“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раз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жива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ши додавањем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ог растварача тј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ђивача који не садржи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е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нент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, концентрациј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=0%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ц-б)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=  а - ц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 =  а –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4"/>
          <p:cNvSpPr/>
          <p:nvPr/>
        </p:nvSpPr>
        <p:spPr>
          <a:xfrm>
            <a:off x="324000" y="3141720"/>
            <a:ext cx="934920" cy="792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 flipV="1">
            <a:off x="324000" y="4365720"/>
            <a:ext cx="1008000" cy="576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 flipV="1">
            <a:off x="1692360" y="3141360"/>
            <a:ext cx="1224000" cy="9349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0"/>
          <p:cNvSpPr/>
          <p:nvPr/>
        </p:nvSpPr>
        <p:spPr>
          <a:xfrm>
            <a:off x="1692360" y="4292640"/>
            <a:ext cx="1150920" cy="6490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ер: припрема раствора водоник пероксида 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Solutio Hidrogenii peroxidi</a:t>
            </a:r>
            <a:r>
              <a:rPr b="0" lang="sr-Latn-C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u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рописује хидроген пероксид у два обл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нцентровани 30% 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olutio Hidrogenii peroxidi concentrata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зблажени 3%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(Solutio Hidrogenii peroxidi diluta)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0" y="1125000"/>
            <a:ext cx="9144000" cy="59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рмакопеја прописује да се ни је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 од водоник пероксида не сме  применити у другој концентрацији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већ само у концентрацији 0,3%.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ај податак је у фармакопеји наведен за сваки од њих у виду</a:t>
            </a:r>
            <a:r>
              <a:rPr b="1" lang="sr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2400" spc="-1" strike="noStrike" u="sng">
                <a:solidFill>
                  <a:srgbClr val="800000"/>
                </a:solidFill>
                <a:uFillTx/>
                <a:latin typeface="Arial"/>
              </a:rPr>
              <a:t>средње концентрације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1% за концентровани водник пероксид (1% од 30% је 0,3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10% за разблажени водник пероксид (10% од 3% је 0,3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0" y="0"/>
            <a:ext cx="9144000" cy="65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/ </a:t>
            </a:r>
            <a:r>
              <a:rPr b="1" lang="sr-Latn-C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Hidrogeni peroxidi sol. dil </a:t>
            </a:r>
            <a:r>
              <a:rPr b="1" lang="sr-C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50</a:t>
            </a:r>
            <a:r>
              <a:rPr b="1" lang="sr-C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,</a:t>
            </a:r>
            <a:r>
              <a:rPr b="1" lang="sr-Latn-C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1" i="1" lang="sr-C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30 %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H</a:t>
            </a:r>
            <a:r>
              <a:rPr b="0" lang="sr-Latn-CS" sz="2400" spc="-1" strike="noStrike" baseline="-25000">
                <a:solidFill>
                  <a:srgbClr val="800000"/>
                </a:solidFill>
                <a:latin typeface="Arial"/>
              </a:rPr>
              <a:t>2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O</a:t>
            </a:r>
            <a:r>
              <a:rPr b="0" lang="sr-Latn-CS" sz="2400" spc="-1" strike="noStrike" baseline="-25000">
                <a:solidFill>
                  <a:srgbClr val="800000"/>
                </a:solidFill>
                <a:latin typeface="Arial"/>
              </a:rPr>
              <a:t>2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                  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3 грама концентрованог 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30%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(3-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9900"/>
                </a:solidFill>
                <a:latin typeface="Arial"/>
              </a:rPr>
              <a:t>0 %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                </a:t>
            </a:r>
            <a:r>
              <a:rPr b="1" lang="sr-CS" sz="2400" spc="-1" strike="noStrike" u="sng">
                <a:solidFill>
                  <a:srgbClr val="009900"/>
                </a:solidFill>
                <a:uFillTx/>
                <a:latin typeface="Arial"/>
              </a:rPr>
              <a:t>27 грама  (30 – 3)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sr-Latn-CS" sz="2400" spc="-1" strike="noStrike">
                <a:solidFill>
                  <a:srgbClr val="808080"/>
                </a:solidFill>
                <a:latin typeface="Arial"/>
              </a:rPr>
              <a:t>       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30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грама раствора 3 % 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sr-Latn-C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1" lang="sr-Latn-C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30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гр. 3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% </a:t>
            </a:r>
            <a:r>
              <a:rPr b="1" lang="sr-Latn-CS" sz="2400" spc="-1" strike="noStrike" baseline="-25000">
                <a:solidFill>
                  <a:srgbClr val="ff3300"/>
                </a:solidFill>
                <a:latin typeface="Arial"/>
              </a:rPr>
              <a:t>H2O2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 :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3 гр.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 30%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 baseline="-25000">
                <a:solidFill>
                  <a:srgbClr val="800000"/>
                </a:solidFill>
                <a:latin typeface="Arial"/>
              </a:rPr>
              <a:t>H2O2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 =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50 гр.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% </a:t>
            </a:r>
            <a:r>
              <a:rPr b="1" lang="sr-Latn-CS" sz="2400" spc="-1" strike="noStrike" baseline="-25000">
                <a:solidFill>
                  <a:srgbClr val="808080"/>
                </a:solidFill>
                <a:latin typeface="Arial"/>
              </a:rPr>
              <a:t>H2O2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 : 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X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 гр.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30%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 baseline="-25000">
                <a:solidFill>
                  <a:srgbClr val="800000"/>
                </a:solidFill>
                <a:latin typeface="Arial"/>
              </a:rPr>
              <a:t>H2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X = 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5  грама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 30 %   H</a:t>
            </a:r>
            <a:r>
              <a:rPr b="1" lang="sr-Latn-CS" sz="2400" spc="-1" strike="noStrike" baseline="-25000">
                <a:solidFill>
                  <a:srgbClr val="800000"/>
                </a:solidFill>
                <a:latin typeface="Arial"/>
              </a:rPr>
              <a:t>2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O</a:t>
            </a:r>
            <a:r>
              <a:rPr b="1" lang="sr-Latn-CS" sz="2400" spc="-1" strike="noStrike" baseline="-25000">
                <a:solidFill>
                  <a:srgbClr val="800000"/>
                </a:solidFill>
                <a:latin typeface="Arial"/>
              </a:rPr>
              <a:t>2</a:t>
            </a:r>
            <a:r>
              <a:rPr b="0" lang="sr-Latn-CS" sz="2400" spc="-1" strike="noStrike" baseline="-25000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 значи да се одмерава 5 грама 30%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 додаје  45 грама воде да би се добило 50 грама 3% раствор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здавање и сигнатура: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у бочици од 50 грама са црвеном сигнатуром на којој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ОБАВЕЗНО ПИШЕ РАЗБЛАЖИТИ ЈЕДНУ КАШИКУ СА ПОЛА ЧАШЕ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4"/>
          <p:cNvSpPr/>
          <p:nvPr/>
        </p:nvSpPr>
        <p:spPr>
          <a:xfrm>
            <a:off x="1116000" y="1484280"/>
            <a:ext cx="719280" cy="2890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6"/>
          <p:cNvSpPr/>
          <p:nvPr/>
        </p:nvSpPr>
        <p:spPr>
          <a:xfrm flipV="1">
            <a:off x="755640" y="1916280"/>
            <a:ext cx="1152360" cy="5047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8"/>
          <p:cNvSpPr/>
          <p:nvPr/>
        </p:nvSpPr>
        <p:spPr>
          <a:xfrm flipV="1">
            <a:off x="2484360" y="1413000"/>
            <a:ext cx="1079640" cy="2872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2484360" y="1989000"/>
            <a:ext cx="1727280" cy="5763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981000"/>
            <a:ext cx="9144000" cy="66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ак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г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р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овољити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ређене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хтјеве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р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БИЛН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р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ЧН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ј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р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говарати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ређеном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упњу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чности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ичк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± 0.0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алитичк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±0.000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р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ЦИЗН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чи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изу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застопних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гањ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ог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мет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рамо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бити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и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тат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р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ЈЕТЉ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12536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/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thanoli diluti 25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S. </a:t>
            </a:r>
            <a:r>
              <a:rPr b="1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љ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 контракције волумена до којег долази када се помешају запремине воде и алкохола за разблаживање се користе искључиво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ински процен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ти наведени у прописима рецепата за припрему алкохола су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уменс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6%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луменских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аци из таблиц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g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,03 вол %  :     93,87 теж %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96 вол %    :    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  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ru-RU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009900"/>
                </a:solidFill>
                <a:uFillTx/>
                <a:latin typeface="Times New Roman"/>
                <a:ea typeface="Times New Roman"/>
              </a:rPr>
              <a:t>93,84 % тежинс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0 % волуменс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,03 вол %   : 62,43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 %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70 вол %    :    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  %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ru-RU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009900"/>
                </a:solidFill>
                <a:uFillTx/>
                <a:latin typeface="Times New Roman"/>
                <a:ea typeface="Times New Roman"/>
              </a:rPr>
              <a:t>62,4  % тежинс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0" y="88056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/ </a:t>
            </a:r>
            <a:r>
              <a:rPr b="1" lang="sr-Latn-C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ethanoli diluti 25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D. S. </a:t>
            </a:r>
            <a:r>
              <a:rPr b="1" i="1" lang="sr-C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пољ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9900"/>
                </a:solidFill>
                <a:uFillTx/>
                <a:latin typeface="Times New Roman"/>
                <a:ea typeface="Times New Roman"/>
              </a:rPr>
              <a:t>93,84 % тежинских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,4 грама 96% етанол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2,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 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lang="ru-RU" sz="2000" spc="-1" strike="noStrike" u="sng">
                <a:solidFill>
                  <a:srgbClr val="009900"/>
                </a:solidFill>
                <a:uFillTx/>
                <a:latin typeface="Times New Roman"/>
                <a:ea typeface="Times New Roman"/>
              </a:rPr>
              <a:t>62,4  % тежински</a:t>
            </a:r>
            <a:r>
              <a:rPr b="1" lang="sr-CS" sz="2000" spc="-1" strike="noStrike" u="sng">
                <a:solidFill>
                  <a:srgbClr val="009900"/>
                </a:solidFill>
                <a:uFillTx/>
                <a:latin typeface="Times New Roman"/>
                <a:ea typeface="Times New Roman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 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%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,44 грама воде 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3,84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,4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3,84 грама етанола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009900"/>
                </a:solidFill>
                <a:uFillTx/>
                <a:latin typeface="Times New Roman"/>
                <a:ea typeface="Times New Roman"/>
              </a:rPr>
              <a:t>62,4  % тежинских</a:t>
            </a:r>
            <a:r>
              <a:rPr b="1" lang="ru-RU" sz="2000" spc="-1" strike="noStrike" u="sng">
                <a:solidFill>
                  <a:srgbClr val="808080"/>
                </a:solidFill>
                <a:uFillTx/>
                <a:latin typeface="Times New Roman"/>
                <a:ea typeface="Times New Roman"/>
              </a:rPr>
              <a:t> (тј.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70% вол</a:t>
            </a:r>
            <a:r>
              <a:rPr b="1" lang="ru-RU" sz="2000" spc="-1" strike="noStrike" u="sng">
                <a:solidFill>
                  <a:srgbClr val="80808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наведених 25 грама препрата из рецепта важи следећа пропорц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,4 </a:t>
            </a:r>
            <a:r>
              <a:rPr b="1" lang="sr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грама 96 %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 93,84 </a:t>
            </a:r>
            <a:r>
              <a:rPr b="1" lang="sr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грама 70% вол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грама 96 %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:  25 </a:t>
            </a:r>
            <a:r>
              <a:rPr b="1" lang="sr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грама 70 %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,62 грама 96% етан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грама препарата - 16,62 грама 96% етанол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8,3 грама в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4"/>
          <p:cNvSpPr/>
          <p:nvPr/>
        </p:nvSpPr>
        <p:spPr>
          <a:xfrm>
            <a:off x="1476360" y="2060640"/>
            <a:ext cx="719280" cy="2887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traight Connector 6"/>
          <p:cNvSpPr/>
          <p:nvPr/>
        </p:nvSpPr>
        <p:spPr>
          <a:xfrm flipV="1">
            <a:off x="1116000" y="2781000"/>
            <a:ext cx="1224000" cy="4316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8"/>
          <p:cNvSpPr/>
          <p:nvPr/>
        </p:nvSpPr>
        <p:spPr>
          <a:xfrm flipV="1">
            <a:off x="4716360" y="1844640"/>
            <a:ext cx="432000" cy="5047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10"/>
          <p:cNvSpPr/>
          <p:nvPr/>
        </p:nvSpPr>
        <p:spPr>
          <a:xfrm>
            <a:off x="4643280" y="2637000"/>
            <a:ext cx="649440" cy="7207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риштењу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ге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рамо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државати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ређених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ил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во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рамо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рити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г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ризонталном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ожају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тролише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белом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ужног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лик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лази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ољу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ге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ризонтални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ожај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иже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оћу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јак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лазе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њој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ани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ољ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ључимо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гу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чекамо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ради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цес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ре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ул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чке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крану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кажу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уле и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г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ремн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д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гу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мемо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вљати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уће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кре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чисте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мете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мете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гамо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рају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ати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мпературу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стор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јем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лази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г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емијске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агенсе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икад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гамо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ректним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вљањем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делицу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ге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го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х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гамо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удици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гање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хатном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клу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тријевој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ољи или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пиру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гу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икад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мемо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теретити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звољене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нице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начен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з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аку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гу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вршетку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гањ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гу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гледамо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кључимо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ико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шло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сипањ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агенс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чистимо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логу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лањањем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чистоћ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Zdravkovicev predmet\cent-tehnicka-vaga-colo.jpg"/>
          <p:cNvPicPr/>
          <p:nvPr/>
        </p:nvPicPr>
        <p:blipFill>
          <a:blip r:embed="rId1"/>
          <a:stretch/>
        </p:blipFill>
        <p:spPr>
          <a:xfrm>
            <a:off x="1547640" y="2492280"/>
            <a:ext cx="4969080" cy="2521080"/>
          </a:xfrm>
          <a:prstGeom prst="rect">
            <a:avLst/>
          </a:prstGeom>
          <a:ln w="0">
            <a:noFill/>
          </a:ln>
        </p:spPr>
      </p:pic>
      <p:sp>
        <p:nvSpPr>
          <p:cNvPr id="50" name="Straight Connector 5"/>
          <p:cNvSpPr/>
          <p:nvPr/>
        </p:nvSpPr>
        <p:spPr>
          <a:xfrm flipV="1">
            <a:off x="4859280" y="1773360"/>
            <a:ext cx="1225440" cy="1224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084720" y="126828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оча од нерђајућег чел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0"/>
          <p:cNvSpPr/>
          <p:nvPr/>
        </p:nvSpPr>
        <p:spPr>
          <a:xfrm>
            <a:off x="2050920" y="1916280"/>
            <a:ext cx="936720" cy="144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539640" y="119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угме за укључивање и искључивање ва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0" y="836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рне једин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народни систем једин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нство мера у читвом свету обезбеђује Међународни систем јединица (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ystème International d’ Unités – S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умачење свих појава у природи довољно је користити СЕДАМ  физичких вели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е величине су: дужина, време, маса, температура, јачина електричне струје и количина супста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ниц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х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их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ина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ИЦ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е одговарајућим стандардима и еталон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е остале величине и јединице које се изражавају помоћу основних називају се изведе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Ksenija</cp:lastModifiedBy>
  <dcterms:modified xsi:type="dcterms:W3CDTF">2019-08-03T17:27:27Z</dcterms:modified>
  <cp:revision>67</cp:revision>
  <dc:subject/>
  <dc:title>Slide 1</dc:title>
</cp:coreProperties>
</file>